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85F-A02A-4FDD-A009-E090582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26E-C7DB-447A-9DF1-718BDC4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0FB-7859-4971-9A5A-7DDA10F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86F-D543-4B12-8A98-23294A48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BF7-0E1F-463A-91F2-482E79AD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E01-56C2-488D-8772-8518CF2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493-FD2F-47FD-B408-49588211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F35-9C8B-473E-9983-48FA3974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748-EAEF-4EB5-A941-876D354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D93-2A88-4594-9D1C-E0E9034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AD2-393C-4018-A9C8-8CD1881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781-C0E7-411E-9012-E41E5AF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EFB48-C03D-4456-A3F6-ECE4C6A092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I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97320" y="4500720"/>
            <a:ext cx="32637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2519280"/>
            <a:ext cx="2963880" cy="34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16480" y="2340000"/>
            <a:ext cx="33242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ES D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s principais partes de planta são: raiz, caule, folha, flor, fruto e semente. A seguir detalheramos cada uma das partes da plan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80360" y="4319640"/>
            <a:ext cx="2340000" cy="28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Í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é a parte responsável pela alimentação. É através da raiz que a planta absorve água, sais minerais e conduz matéria orgânica até o caule. Ela funciona também como "dispensa", guardando reservas de nutrientes. As raízes podem ser subterrâneas (sob o solo), aquáticas (submersas na água)ou aéreas(nem na terra, nem dentro da águ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64280" y="179280"/>
            <a:ext cx="319572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espinha dorsal da planta, mantendo-a ereta. O caule tem várias denominações. Nas árvores, chama-se tronco; haste nas plantas rasteiras e tenras; estipe, nos coqueiros e palmeiras; e colmo, quando dividido em nós e entre-nós. O caule pode, ainda, ser chamado estolão, nas suculentas e trepadeiras e, quando modificado, é conhecido por rizoma, bulbo, gavinha ou espi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80000" y="233280"/>
            <a:ext cx="270036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L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folhas são responsáveis pela fotossíntese, respiração e transpiração, funções primordiais de um ser vivo do reino vegetal. Geralmente são constituídas de lâminas e pecíolo (cabinho que a une ao caule), e apresentam-se de várias formas; lineares, oblíquas, lanceoladas, etc. Uma folha pode ainda ser simples (só uma lâmina) ou composta. A distribuição no caule é normalmente, alternada, composta ou verticulada. Em alguns casos suprindo a planta, até que ela consiga produzir seu próprio alimento, ou servindo como proteção (assume a forma de espinhos), a folha para bem cumprir sua função deve estar viçosa, limpa e bem nutr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1520" y="179280"/>
            <a:ext cx="23288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a flor desabrocha significa que está pronta para reproduzir-se. Com a parte masculina (estames) e a feminina (pistilo ou estigma e ovário) perfeitamente estruturadas, os agentes da natureza conseguem depositar o pólen no estigma fecundando óvulo e ovários. Quando uma planta "dá flor", está em sua fase mais crítica, pois direciona toda a energia à esta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89640" y="179280"/>
            <a:ext cx="332892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R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o ovário fecundado que incumbe-se de proteger a maior riqueza de uma planta, a semente, guardando-a em seu interior. Homens e animais que se alimentam dele, transportam sementes para outros locais, ampliando a proliferação das espé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419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M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reservas de alimento, para possibilitar que a planta germine e cresça até ter folhas e poder realizar a fotossíntese. Para brotar, algumas dividem-se em duas, como o feijão e a soja, outras se mantém inteiras, como o milho e o arroz. Sua função é de preservar a espécie, através da multiplicação seminal. Ligadas entre si, todas as partes da planta trabalham em um sincronismo perfeito. Assim, procure tratá-las com o devido cuidado, garantindo a vitalidade e o bom desenvolvimento de sua pla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0360" y="360360"/>
            <a:ext cx="3060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36:01Z</dcterms:created>
  <dc:creator/>
  <dc:description/>
  <dc:language>en-US</dc:language>
  <cp:lastModifiedBy/>
  <cp:revision>1</cp:revision>
  <dc:subject/>
  <dc:title/>
</cp:coreProperties>
</file>